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C5236-C718-46F2-84B7-7B849508C25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61F5C-93D5-4E73-84DE-E95A54F6D140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097CA-CE3F-4C57-AEB1-FC90AD268E2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6A66D-DDAE-49A2-802F-09775A7278B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27C3D-4586-4AE1-9897-7B8A11AD448F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2D84B-C8F9-44FA-93B3-0FA54ABF0A5F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5FE00-65A8-4490-A326-760E933A1841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7B157-948B-4755-92F4-7F330202518D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BFFE2-49C9-42D0-9AC1-A3B6A4E495D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6C111-6045-4783-A969-2178A6F20E6D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3526D-9C0E-4DF4-A555-7F30EA411B5D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45078-0FDD-451B-98C5-93DD656C05E4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CE14B-AF9B-4A54-93F2-26209178F91C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40BAA-94CB-4C2F-9B24-F01A18B141AF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82585-1F8A-4BDE-B4E5-272047A3324F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D79C8-687F-4109-A57E-B9122503809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F70CE-878C-444B-833E-E9750A9D78F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752A0-6419-4312-A72F-43E91B8AFEA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11F31-EEB0-4DD9-865F-ED12B98FE7A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9C793-E166-44F8-A94E-6954A7A66162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31C8B-B79F-4D86-A268-EC0DBBCD0F04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EE19D-D3F9-473F-A5A9-BEDE5FFB460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0AE3E-D9E7-46CC-B5C1-45825E911D89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B3501-6E2E-4C8A-8FB4-44B9A21531FA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57100-FE91-40DD-A6D2-0EB951B6CFC0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0D798-8DE5-4E71-B03D-830D2732BFE0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EC15B-2B5F-41B3-988D-9A4493801E39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74CE8-3983-4290-8AC0-26DB4424EBB8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23E76-9FBF-4AF2-9F4C-B3C0E6F2D98F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47A9F-5A6F-4576-B2EB-5DEB4464294C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85F-F82B-4426-815C-5E6F0992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4A3-4DEE-4E65-AFD8-04A76A5D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144-E087-4DE2-8EA3-36606299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1C8-74A9-4F70-AFAE-001CFC3C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960F-C7EF-4B83-9D33-13420DDF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C0E4-4E10-48FE-A664-CC9C0D26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3682-07E2-4FDF-B719-FA0A6C09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3A7E-DBA7-49DB-B543-3F0E8F19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379-E898-47EC-868E-0FA93023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6B6-0F28-4B67-ADA5-F883C8CC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E2A-BC00-40E4-9B6D-2E482FCA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0A5-DECA-434B-9C07-562DD4FE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B45F99-384E-4A37-A00D-F260E94E62D7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bosch.de/" TargetMode="External"/><Relationship Id="rId2" Type="http://schemas.openxmlformats.org/officeDocument/2006/relationships/hyperlink" Target="http://www.wikipedia.org/wiki/Rekuperationsbremse" TargetMode="External"/><Relationship Id="rId3" Type="http://schemas.openxmlformats.org/officeDocument/2006/relationships/hyperlink" Target="http://www.varta.de/" TargetMode="External"/><Relationship Id="rId4" Type="http://schemas.openxmlformats.org/officeDocument/2006/relationships/hyperlink" Target="http://www.wikipedia.org/wiki/Bleiakkumulator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24177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                                                           Datum: 06.05.2011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Bremsenergierückgewinnung</a:t>
            </a:r>
            <a:br>
              <a:rPr sz="1800"/>
            </a:br>
            <a:br>
              <a:rPr sz="1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979640"/>
            <a:ext cx="100807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Datum: 06.05.2011                                                   6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Zwei Konzep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3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19630d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Bei konventionellen Ver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brennungsmotor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Energie wird gescho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Ladezustand der Batter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wird überwacht und ggf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gelad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19630d"/>
                </a:solidFill>
                <a:latin typeface="Arial"/>
              </a:rPr>
              <a:t>2.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Beim Hybridsystem.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Energie wird zurück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gewonn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Energie kann in eine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Zwischenspeicher bzw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Akku transferiert werd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    Datum: 06.05.2011                                            7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Vorteile der Rekupe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751040"/>
            <a:ext cx="9070920" cy="70689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Times New Roman"/>
              </a:rPr>
              <a:t>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Times New Roman"/>
              </a:rPr>
              <a:t>Geringerer Kraftstoffverbrauch(3%), weniger </a:t>
            </a:r>
            <a:r>
              <a:rPr b="0" lang="en-US" sz="2600" spc="-1" strike="noStrike">
                <a:solidFill>
                  <a:srgbClr val="19630d"/>
                </a:solidFill>
                <a:latin typeface="Times New Roman"/>
              </a:rPr>
              <a:t>CO</a:t>
            </a:r>
            <a:r>
              <a:rPr b="0" lang="en-US" sz="2600" spc="-1" strike="noStrike" baseline="-19000">
                <a:solidFill>
                  <a:srgbClr val="19630d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 baseline="-19000">
                <a:solidFill>
                  <a:srgbClr val="19630d"/>
                </a:solidFill>
                <a:latin typeface="Times New Roman"/>
              </a:rPr>
              <a:t>Mehr Antriebskraft beim Beschleuni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 baseline="-19000">
                <a:solidFill>
                  <a:srgbClr val="19630d"/>
                </a:solidFill>
                <a:latin typeface="Times New Roman"/>
              </a:rPr>
              <a:t>Motorbremsfunktion, dadurch weniger Verschleiß v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 baseline="-19000">
                <a:solidFill>
                  <a:srgbClr val="19630d"/>
                </a:solidFill>
                <a:latin typeface="Times New Roman"/>
              </a:rPr>
              <a:t>Getriebe; weniger Verschleiß der Bremsbelä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 baseline="-19000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Datum: 06.05.2011                                                8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Wie viel Kraftstoff benötigt der Generat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47280" y="9000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Es soll der Kraftstoffverbrauch auf 100km errechnet werden, der durch den Generator entste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Geg: U = 12V ; I = 65A; η = 0,9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Ges:  W in kWh / 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P in kW </a:t>
            </a:r>
            <a:r>
              <a:rPr b="0" lang="de-DE" sz="2600" spc="-1" strike="noStrike">
                <a:solidFill>
                  <a:srgbClr val="19630d"/>
                </a:solidFill>
                <a:latin typeface="Swis721 LtCn BT"/>
              </a:rPr>
              <a:t>· 1h = Arbeit in kW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Swis721 LtCn BT"/>
              </a:rPr>
              <a:t>Hinweis: 1l / 100km ≙ 10kWh/ 100k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720720" y="5219640"/>
          <a:ext cx="8999640" cy="234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19640"/>
                    <a:ext cx="899964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192240"/>
            <a:ext cx="907092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Datum: 06.05.2011                                                 9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de-DE" sz="3600" spc="-1" strike="noStrike" u="sng">
                <a:solidFill>
                  <a:srgbClr val="ffffff"/>
                </a:solidFill>
                <a:uFillTx/>
                <a:latin typeface="Arial"/>
              </a:rPr>
              <a:t>Lösung</a:t>
            </a: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895640" cy="5407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23ff23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P</a:t>
            </a:r>
            <a:r>
              <a:rPr b="0" lang="de-DE" sz="2600" spc="-1" strike="noStrike" baseline="-42000">
                <a:solidFill>
                  <a:srgbClr val="19630d"/>
                </a:solidFill>
                <a:latin typeface="Arial"/>
              </a:rPr>
              <a:t>aufgenommen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 = 1351W/ 0,9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P</a:t>
            </a:r>
            <a:r>
              <a:rPr b="0" lang="de-DE" sz="2600" spc="-1" strike="noStrike" baseline="-42000">
                <a:solidFill>
                  <a:srgbClr val="19630d"/>
                </a:solidFill>
                <a:latin typeface="Arial"/>
              </a:rPr>
              <a:t>aufgenommen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 = 1501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W= 1,501kW · 1 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W= 1,501kW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1,501kWh = 0,1501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580000" y="2518920"/>
            <a:ext cx="40672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 u="sng">
                <a:solidFill>
                  <a:srgbClr val="19630d"/>
                </a:solidFill>
                <a:uFillTx/>
                <a:latin typeface="Arial"/>
              </a:rPr>
              <a:t>Schlusssatz: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Durch den Generator wird auf einer Strecke von 100km ca. </a:t>
            </a:r>
            <a:r>
              <a:rPr b="0" lang="de-DE" sz="2600" spc="-1" strike="noStrike" u="sng">
                <a:solidFill>
                  <a:srgbClr val="19630d"/>
                </a:solidFill>
                <a:uFillTx/>
                <a:latin typeface="Arial"/>
              </a:rPr>
              <a:t>150ml</a:t>
            </a: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 mehr verbraucht, unter Vernachlässigung der          Reibungsverluste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220320"/>
            <a:ext cx="907092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Datum: 06.05.2011                                               10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Warum verbraucht ein Fahrzeug ohne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ohne Rekuperation mehr?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18920" y="1800000"/>
            <a:ext cx="68403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Durch den dauerhaften Antrieb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des Generators muss der Motor de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Widerstand (das Magnetfeld) überwin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und gibt damit einen Tei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seiner Leistung ab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Dies hat einen höheren Kraftstoffverbrauch zur Folg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Datum: 06.05.2011                                                 11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Der Wi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Der Widerstand ist das Resultat v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verschiedenen Verlus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Reibungsverluste( Kollektor, Schleifrin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Wicklungsverluste( Wirbelstromverlus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Magnetisierungsverluste( entstehende Wärme durch ständiges Ummagnetisiere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1"/>
          <p:cNvSpPr/>
          <p:nvPr/>
        </p:nvSpPr>
        <p:spPr>
          <a:xfrm>
            <a:off x="-179280" y="-179280"/>
            <a:ext cx="10439280" cy="79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VARTA_FINALRENDER_GERMAN_01.wmv" descr=""/>
          <p:cNvPicPr/>
          <p:nvPr/>
        </p:nvPicPr>
        <p:blipFill>
          <a:blip r:embed="rId1"/>
          <a:stretch/>
        </p:blipFill>
        <p:spPr>
          <a:xfrm>
            <a:off x="0" y="17640"/>
            <a:ext cx="10080720" cy="757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Datum: 06.05.2011                                                  13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Bestandteile eines Rekuperations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690200"/>
            <a:ext cx="9720360" cy="586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Motormanagem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Motorsteuergerät mit integrierter Generatorregelung 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E-Gaspedal mit Schuberkenn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Batteriemanagem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Batteriesensor mit integriertem Steuergerät und e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speziellen AGM-Batte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Multifunktionsregler</a:t>
            </a: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am Generator mit Anbindung zum Can-B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Datum: 06.05.2011                                              14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Vernetzung des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440000"/>
            <a:ext cx="9070920" cy="692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Der Datentransfer bei der Rekuperation verläuft mit d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CAN-BUS Syste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CAN bedeutet Controller Area Net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Es besteht aus zwei Datenleitungen(CAN-High; CAN-Low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Funktioniert nach dem Master-Slave Prinz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19630d"/>
                </a:solidFill>
                <a:latin typeface="Arial"/>
              </a:rPr>
              <a:t>Es werden weniger Kabelstränge und Sensoren benötig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Datum: 06.05.2011                                                 15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CAN-Datenb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40000" y="1800360"/>
            <a:ext cx="7380000" cy="4679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60000" y="6672240"/>
            <a:ext cx="381636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Quelle: kfz-tech.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 Fochler       Klasse:  FOS-T                                                           Datum: 06.05.2011                             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Inhaltsverzeich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406520"/>
            <a:ext cx="907092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Die Emissionen                              6. Zwei Konzepte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 Ein Problem                                    7. Vorteile der Reku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 Ein Lösungsansatz?                       8. Wie viel Kraftstoff benötigt 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era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 Die Idee                                           9. Lösu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. Rekuperation beim Kfz                  10. Warum verbraucht ein Fahrzeu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Rekuperation meh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Datum: 06.05.2011                                                16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de-DE" sz="3600" spc="-1" strike="noStrike" u="sng">
                <a:solidFill>
                  <a:srgbClr val="ffffff"/>
                </a:solidFill>
                <a:uFillTx/>
                <a:latin typeface="Arial"/>
              </a:rPr>
              <a:t>Das Batterie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Während der Fahrt laufende Kontrolle der Batteri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spannung und Ladeaktivitä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Bei Bedarf erhöht das System di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Leerlaufdrehzahl geringfügig um die Leist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s Ladegenerators zu erhöh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In extremen Fällen werden kurzzeitig beson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verbrauchsintensive Komponenten deaktivi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r Komfort leidet darunter nic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7199280" y="2879640"/>
            <a:ext cx="251928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Datum: 06.05.2011                                                   17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de-DE" sz="3600" spc="-1" strike="noStrike" u="sng">
                <a:solidFill>
                  <a:srgbClr val="ffffff"/>
                </a:solidFill>
                <a:uFillTx/>
                <a:latin typeface="Arial"/>
              </a:rPr>
              <a:t>Der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de-DE" sz="3600" spc="-1" strike="noStrike" u="sng">
                <a:solidFill>
                  <a:srgbClr val="ffffff"/>
                </a:solidFill>
                <a:uFillTx/>
                <a:latin typeface="Arial"/>
              </a:rPr>
              <a:t>Batteriesensor/ Steuergerä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5151600" y="2600280"/>
            <a:ext cx="4425840" cy="33242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wird</a:t>
            </a:r>
            <a:r>
              <a:rPr b="0" lang="de-DE" sz="3200" spc="-1" strike="noStrike">
                <a:solidFill>
                  <a:srgbClr val="19630d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am Minuspol befestig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Permanente Bewertung des aktuellen Ladezust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Analysiert vollgende Wer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Batteriespannung, -strom und -temperat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überprüft auch den Ruhest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Steuergerät integri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Datum: 06.05.2011                                               18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de-DE" sz="3600" spc="-1" strike="noStrike" u="sng">
                <a:solidFill>
                  <a:srgbClr val="ffffff"/>
                </a:solidFill>
                <a:uFillTx/>
                <a:latin typeface="Arial"/>
              </a:rPr>
              <a:t>Schaltplan des BM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1619280"/>
            <a:ext cx="10080720" cy="59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Datum: 06.05.2011                                                 19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Batterie mit AGM-Technolo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360" y="1800360"/>
            <a:ext cx="9286920" cy="241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AGM bedeutet Absorbent Glass 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Elekrolyt ist in einem Vlies aus Glasfasern gebun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höhere Zyklenfestigkeit im Vergleich zu traditionellen Batteri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r Verlust des aktiven Materials wird so weit wi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möglich reduzi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079640" y="3959280"/>
            <a:ext cx="828036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253800"/>
            <a:ext cx="9070920" cy="13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Mark Fochler       Klasse:  FOS-T      Datum:06.05.2011                                            20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               </a:t>
            </a:r>
            <a:r>
              <a:rPr b="1" lang="de-DE" sz="3600" spc="-1" strike="noStrike" u="sng">
                <a:solidFill>
                  <a:srgbClr val="ffffff"/>
                </a:solidFill>
                <a:uFillTx/>
                <a:latin typeface="Century Gothic"/>
              </a:rPr>
              <a:t>Intelligente Generatorregelung</a:t>
            </a: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de-DE" sz="1600" spc="-1" strike="noStrike">
                <a:solidFill>
                  <a:srgbClr val="ff3300"/>
                </a:solidFill>
                <a:latin typeface="Arial"/>
              </a:rPr>
              <a:t>Verzögerungsphas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19630d"/>
                </a:solidFill>
                <a:latin typeface="Arial"/>
              </a:rPr>
              <a:t>Bei einer Verzögerung regelt der Generator auf Befehl des Motor-Steuergeräts seine Ladespannung auf 14 V wie bei einem herkömmlichen Generator, um der Motor-Bremswirkung Vorrang zu gebe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19630d"/>
                </a:solidFill>
                <a:latin typeface="Arial"/>
              </a:rPr>
              <a:t>&gt; Generator-Belastung</a:t>
            </a:r>
            <a:r>
              <a:rPr b="1" lang="de-DE" sz="1600" spc="-1" strike="noStrike">
                <a:solidFill>
                  <a:srgbClr val="23ff23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de-DE" sz="1600" spc="-1" strike="noStrike">
                <a:solidFill>
                  <a:srgbClr val="ff3300"/>
                </a:solidFill>
                <a:latin typeface="Arial"/>
              </a:rPr>
              <a:t>Beschleunigungsphas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19630d"/>
                </a:solidFill>
                <a:latin typeface="Arial"/>
              </a:rPr>
              <a:t>Bei einer Beschleunigung regelt der Generator auf Befehl des Motor-Steuergeräts seine Ladespannung auf einem niedrigeren Wert, also 13,2 V, um das Widerstandsmoment am Motor zu verringern und den Kraftstoffverbrauch zu senke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19630d"/>
                </a:solidFill>
                <a:latin typeface="Arial"/>
              </a:rPr>
              <a:t>&gt; Generator-Entlastung</a:t>
            </a:r>
            <a:r>
              <a:rPr b="1" lang="de-DE" sz="1600" spc="-1" strike="noStrike">
                <a:solidFill>
                  <a:srgbClr val="23ff23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de-DE" sz="1600" spc="-1" strike="noStrike">
                <a:solidFill>
                  <a:srgbClr val="ff3300"/>
                </a:solidFill>
                <a:latin typeface="Arial"/>
              </a:rPr>
              <a:t>Stabilisierter Betrie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19630d"/>
                </a:solidFill>
                <a:latin typeface="Arial"/>
              </a:rPr>
              <a:t>Bei stabilisierter Drehzahl regelt der Generator auf Befehl des Motor-Steuergeräts seine Ladespannung auf einen Zwischenwert, also 13,5 V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5724360" y="167940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Die IGR-Funktion ist 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Software, in der DME/D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integrie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In der Systemübers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sind die beteilig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19630d"/>
                </a:solidFill>
                <a:latin typeface="Arial"/>
                <a:ea typeface="MS Gothic"/>
              </a:rPr>
              <a:t>Komponenten dargestell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39640" y="3125880"/>
            <a:ext cx="5040360" cy="33541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611360" y="185112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400" spc="-1" strike="noStrike">
                <a:solidFill>
                  <a:srgbClr val="19630d"/>
                </a:solidFill>
                <a:latin typeface="Arial"/>
                <a:ea typeface="MS Gothic"/>
              </a:rPr>
              <a:t>Bit serielle 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348000" y="357336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MS Gothic"/>
              </a:rPr>
              <a:t>Ladezustand der Batte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 flipH="1" flipV="1">
            <a:off x="3130560" y="2418840"/>
            <a:ext cx="866880" cy="938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665680" y="3556080"/>
          <a:ext cx="3044880" cy="3043080"/>
        </p:xfrm>
        <a:graphic>
          <a:graphicData uri="http://schemas.openxmlformats.org/drawingml/2006/table">
            <a:tbl>
              <a:tblPr/>
              <a:tblGrid>
                <a:gridCol w="792360"/>
                <a:gridCol w="2252520"/>
              </a:tblGrid>
              <a:tr h="380880"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IN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ERKLÄR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Gener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Motorsteuerung (DME/DD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Intelligenter Batteriesensor I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Fahrzeugbatt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Verbraucher im Fahrze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R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Energiefluss im Fahrze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Bl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Informationsfluss im Fahrze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299520"/>
            <a:ext cx="90709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Mark Fochler       Klasse:  FOS-T      Datum:06.05.2011                                            21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                                        </a:t>
            </a:r>
            <a:r>
              <a:rPr b="1" lang="de-DE" sz="3200" spc="-1" strike="noStrike" u="sng">
                <a:solidFill>
                  <a:srgbClr val="ffffff"/>
                </a:solidFill>
                <a:uFillTx/>
                <a:latin typeface="Century Gothic"/>
              </a:rPr>
              <a:t>IGR Übersich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253800"/>
            <a:ext cx="9070920" cy="13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Mark Fochler       Klasse:  FOS-T     Datum:06.05.2011                                             22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</a:t>
            </a:r>
            <a:r>
              <a:rPr b="1" lang="de-DE" sz="2800" spc="-1" strike="noStrike" u="sng">
                <a:solidFill>
                  <a:srgbClr val="ffffff"/>
                </a:solidFill>
                <a:uFillTx/>
                <a:latin typeface="Century Gothic"/>
              </a:rPr>
              <a:t>Laderegelung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20360" y="1800000"/>
            <a:ext cx="8675640" cy="62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Bei Fahrzeugen ohne Rekuperation soll die Ladespan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konstant sein, denn der Bleiakkumulator verkraftet ke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großen Ladespannungsschwankung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Die Ausgangsspannung ist stark drehzahl,- und last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abhängi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Ein Laderegler steuert über die Erregerspannung den Strom und damit die magnetische Feldstärke so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9630d"/>
                </a:solidFill>
                <a:latin typeface="Arial"/>
              </a:rPr>
              <a:t>dass die Ladespannung konstant i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920" y="253800"/>
            <a:ext cx="9070920" cy="13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Mark Fochler       Klasse:  FOS-T     Datum:06.05.2011                                             23 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                                       </a:t>
            </a:r>
            <a:r>
              <a:rPr b="1" lang="de-DE" sz="2800" spc="-1" strike="noStrike" u="sng">
                <a:solidFill>
                  <a:srgbClr val="ffffff"/>
                </a:solidFill>
                <a:uFillTx/>
                <a:latin typeface="Century Gothic"/>
              </a:rPr>
              <a:t>Multifunktionsregler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39956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Der Regler steuert d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Erregerstro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besitzt keine Erregerdioden meh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Er wird vom Steuergerä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mit Impulsen angetakt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19630d"/>
                </a:solidFill>
                <a:latin typeface="Arial"/>
              </a:rPr>
              <a:t>Das Tastverhältnis ist ein Maß für den Auslastungs-grad des Generator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4680000" y="1800360"/>
            <a:ext cx="489888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6560" y="301320"/>
            <a:ext cx="90712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Mark Fochler       Klasse:  FOS-T      Datum:06.05.2011                                            24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</a:t>
            </a:r>
            <a:r>
              <a:rPr b="1" lang="de-DE" sz="3600" spc="-1" strike="noStrike" u="sng">
                <a:solidFill>
                  <a:srgbClr val="ffffff"/>
                </a:solidFill>
                <a:uFillTx/>
                <a:latin typeface="Century Gothic"/>
              </a:rPr>
              <a:t>Lückentext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68000" y="1460520"/>
            <a:ext cx="907092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Das regenerative Bremsen, auch _____ genannt, ist ein rein ______ System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welches in der Lage ist den Kraftstoffverbrauch um ca. __% zu senk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Es besteht aus einem _______, einer intelligenten Generatorregelung u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einer  speziellen 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Das _______ kann den Ladezustand der Batterie analytisch ermitteln u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ist über das______ System mit dem Motormanagement vernetz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Daraufhin kann die Generatorregelung, die im _______ integriert ist reagier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Ist der vom Fahrzeughersteller  definierte Ladezustand erreicht, wird di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_______ herabgesetzt und das _________ am Motor sink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Es wird Kraftstoff gespar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Ist der Soll-Ladezustand nicht erreicht  und es herrscht keine Bremsphase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dann wird die Ladespannung auf einen Mittelwert von ____V  geregel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19630d"/>
                </a:solidFill>
                <a:latin typeface="Arial"/>
              </a:rPr>
              <a:t>Ist eine Bremsphase vorhanden, dann wird verstärkt mit ____V geladen</a:t>
            </a:r>
            <a:r>
              <a:rPr b="1" lang="de-DE" sz="1800" spc="-1" strike="noStrike">
                <a:solidFill>
                  <a:srgbClr val="23ff23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Datum: 06.05.2011                                                    25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En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19630d"/>
                </a:solidFill>
                <a:latin typeface="Arial"/>
              </a:rPr>
              <a:t>Vielen Dank für Ihre Aufmerksamke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3200" spc="-1" strike="noStrike">
                <a:solidFill>
                  <a:srgbClr val="19630d"/>
                </a:solidFill>
                <a:latin typeface="Arial"/>
              </a:rPr>
              <a:t>Quellenangab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www.bosch.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wikipedia.org/wiki/Rekuperationsbrem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varta.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wikipedia.org/wiki/Bleiakkumul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000" spc="-1" strike="noStrike">
                <a:solidFill>
                  <a:srgbClr val="19630d"/>
                </a:solidFill>
                <a:latin typeface="Arial"/>
              </a:rPr>
              <a:t>Europa Fachkunde Buch 28te Aufl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 Fochler       Klasse:  FOS-T                                                           Datum: 06.05.2011                             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Inhaltsverzeich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941400"/>
            <a:ext cx="9070920" cy="7262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1. Der Widerstand                             16. Das Batterie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2. Film Varta AG                                17. Der Batteriesensor/ Steuergerä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3. Bestandteile eines                         18. Schaltplan des B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kuperations- systems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4. Vernetzung des Systems             19. Batterie mit AGM-Technolog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. CAN-Datenbus                              20. Intelligente Generatorregelung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 Fochler       Klasse:  FOS-T                                                           Datum: 06.05.2011                             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Inhaltsverzeich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762120"/>
            <a:ext cx="9070920" cy="801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1. IGR Übersicht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2. Laderegelung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3. Multifunktionsregler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4. Zusammenfassung als Lücken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5. Ende der Präsentation und die Quellenangaben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141120"/>
            <a:ext cx="90709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   Datum: 06.05.2011                                             1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Die Emissionen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02920" y="1812600"/>
            <a:ext cx="9070920" cy="57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Quelle:focus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1440000"/>
            <a:ext cx="10080720" cy="504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178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Datum: 06.05.2011                                                 2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Ein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8000" y="1387080"/>
            <a:ext cx="907092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Ein Kfz hat einen nur sehr geringen Wirkungsgr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r thermische Wirkungsgrad ei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Otto-Motors liegt bei nur ca. 35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ieser Wirkungsgrad wird im Anschlu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ann nochmals durch 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Reibungsverluste gemind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Man spricht hier v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m mechanischen Wirkungsgr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ie hohen Verluste haben ein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hohen, unnöti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Kraftstoffverbrauch zur Folge!</a:t>
            </a: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Datum: 06.05.2011                                                   3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Ein Lösungsansatz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342040" y="1768320"/>
            <a:ext cx="4046400" cy="4989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0" y="1979640"/>
            <a:ext cx="51912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Man verringert die Widerstä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beim Kfz, indem man die  Zeit w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sie auftreten verkürz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bzw. entfallen läs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ies soll beim                  elektrischen Widerstand  im Generator gescheh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640" y="58680"/>
            <a:ext cx="90712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Datum: 06.05.2011                                                 4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Die Ide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219640" y="1800360"/>
            <a:ext cx="4500720" cy="216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5219640" y="4140360"/>
            <a:ext cx="4500720" cy="2879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03280" y="1714320"/>
            <a:ext cx="453528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er Generator und die Kühlmittelpumpe eines Kfz werden angetrieben, sobald der Motor läuf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Die beiden Aggregate laufen ununterbrochen mi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Es wäre sinnvoll die Pumpe und den Generator nur an der Bewegungsenergie des Motors teilnehmen zulass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19630d"/>
                </a:solidFill>
                <a:latin typeface="Arial"/>
              </a:rPr>
              <a:t>wenn sie denn auch benötigt werd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ark Fochler       Klasse:  FOS-T                Datum: 06.05.2011                                         5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Rekuperation beim Kf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Es handelt sich um ein System bei einem Kfz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welches in der Lage ist, anhand von aufgenommenen Eingangsgrößen eine Regelung vorzuneh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Diese Regelung bezieht sich auf die Verzögerungsphasen des Fahrzeu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und kann die „Bremsung“ nutzen, um Energi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in Form von elektrischen Strom zurückzugewinnen.</a:t>
            </a:r>
            <a:r>
              <a:rPr b="0" lang="de-DE" sz="2800" spc="-1" strike="noStrike">
                <a:solidFill>
                  <a:srgbClr val="19630d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19630d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720720" y="4699080"/>
            <a:ext cx="8739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6:54:57Z</dcterms:created>
  <dc:creator/>
  <dc:description>Präsentationshintergrund Vorlage</dc:description>
  <dc:language>en-US</dc:language>
  <cp:lastModifiedBy>Mark</cp:lastModifiedBy>
  <dcterms:modified xsi:type="dcterms:W3CDTF">2011-05-05T13:32:56Z</dcterms:modified>
  <cp:revision>103</cp:revision>
  <dc:subject/>
  <dc:title>Blau und Grau</dc:title>
</cp:coreProperties>
</file>